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A8C1-F2B1-44B1-A6A0-98DF7E6C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1C6A-8A07-4EAB-90C6-34167885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E4B5-E17A-4FC0-AA46-BB8BA1974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B841-5A57-40C2-95A9-D15661DB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EFD0-F230-43C5-8B66-625729E0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1C04-01F8-4DC6-B806-5533B5EC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A2EC-3F71-48B4-8685-10E743CD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03D7-0F39-45EB-9012-B93CFBC0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1662-9560-4207-A835-E0C1F605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7E61-D394-49A6-8FA0-05CAA64E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7464-3F0D-4877-886F-2DB94A9B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3599-641F-4BF5-AA78-2888F155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8547-1810-42C7-96A0-9742C9CEF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.png"/><Relationship Id="rId6" Type="http://schemas.openxmlformats.org/officeDocument/2006/relationships/image" Target="../media/image3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4.wmf"/><Relationship Id="rId10" Type="http://schemas.openxmlformats.org/officeDocument/2006/relationships/image" Target="../media/image2.wmf"/><Relationship Id="rId11" Type="http://schemas.openxmlformats.org/officeDocument/2006/relationships/image" Target="../media/image6.wmf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25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Πιάσε το κέρμα χωρίς να βραχεί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476280"/>
            <a:ext cx="1441440" cy="5204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ΥΛΙΚ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1079280" cy="727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4360" y="2565360"/>
            <a:ext cx="573120" cy="1001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26920" y="3716280"/>
            <a:ext cx="371520" cy="987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rcRect l="0" t="17372" r="25324" b="0"/>
          <a:stretch/>
        </p:blipFill>
        <p:spPr>
          <a:xfrm rot="1415400">
            <a:off x="539280" y="1628280"/>
            <a:ext cx="690840" cy="863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203640" y="2708280"/>
            <a:ext cx="4608360" cy="3673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rcRect l="0" t="5226" r="2977" b="0"/>
          <a:stretch/>
        </p:blipFill>
        <p:spPr>
          <a:xfrm rot="7147200">
            <a:off x="3276000" y="2347560"/>
            <a:ext cx="720720" cy="1873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11280" y="4941720"/>
            <a:ext cx="745920" cy="597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284720" y="4292640"/>
            <a:ext cx="2303280" cy="1152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5724360" y="4581360"/>
            <a:ext cx="746280" cy="597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rcRect l="0" t="17372" r="25324" b="0"/>
          <a:stretch/>
        </p:blipFill>
        <p:spPr>
          <a:xfrm rot="11972400">
            <a:off x="4466520" y="3517200"/>
            <a:ext cx="1498680" cy="1873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43280" y="4724280"/>
            <a:ext cx="1081080" cy="5050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4859280" y="4005360"/>
            <a:ext cx="573120" cy="1146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 flipH="1">
            <a:off x="5940360" y="4724280"/>
            <a:ext cx="1225440" cy="1414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35280" y="692280"/>
            <a:ext cx="7129440" cy="1800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2"/>
          <a:srcRect l="0" t="25073" r="-519" b="0"/>
          <a:stretch/>
        </p:blipFill>
        <p:spPr>
          <a:xfrm>
            <a:off x="4859280" y="4292640"/>
            <a:ext cx="576360" cy="858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79640" y="765000"/>
            <a:ext cx="69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Παίρνουμε μια λεκάνη και ρίχνουμε μέσα λίγο νερ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79640" y="1125360"/>
            <a:ext cx="68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Τοποθετούμε μέσα στη λεκάνη ένα κέρμ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1557360"/>
            <a:ext cx="680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Τοποθετούμε στο νερό ένα αναμμένο κερί και το καλύπτουμε με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ένα ποτήρ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11960" y="5734080"/>
            <a:ext cx="242100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Τι παρατηρείς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65896E-006 L 0.18489 -0.26011 E">
                                      <p:cBhvr>
                                        <p:cTn id="89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44509E-006 L 0.17969 -0.24277 E">
                                      <p:cBhvr>
                                        <p:cTn id="9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31T23:25:20Z</dcterms:created>
  <dc:creator>manager</dc:creator>
  <dc:description/>
  <dc:language>en-US</dc:language>
  <cp:lastModifiedBy>manager</cp:lastModifiedBy>
  <dcterms:modified xsi:type="dcterms:W3CDTF">2000-12-31T22:26:31Z</dcterms:modified>
  <cp:revision>7</cp:revision>
  <dc:subject/>
  <dc:title>Διαφάνεια 1</dc:title>
</cp:coreProperties>
</file>